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40A-8BFA-4AD1-8DFD-8603B842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661-BC9C-455E-B4F0-482AE3F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CC9-A959-40DD-8C9F-D1B9002E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DE8-51CA-4419-92CC-A96EFFAA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355-D8CF-4444-B23A-3F87E9B5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BAF-DFCA-4E3A-A364-F21756F7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711-CA41-42F8-BA5A-0316CC0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F00-549B-48F2-946B-4573825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DEA-F507-4041-A788-F9BA5561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6B2-FB98-4984-9C80-BAD00C2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65A-82D6-4A4C-9FAA-ED1FE38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941-0AFD-4E63-9982-0B93A98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450-E2B0-4E9D-BD38-E412E09EE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thern California Fi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20487" b="0"/>
          <a:stretch/>
        </p:blipFill>
        <p:spPr>
          <a:xfrm>
            <a:off x="22860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12442" b="0"/>
          <a:stretch/>
        </p:blipFill>
        <p:spPr>
          <a:xfrm>
            <a:off x="22860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20487" b="0"/>
          <a:stretch/>
        </p:blipFill>
        <p:spPr>
          <a:xfrm>
            <a:off x="2438280" y="304812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rcRect l="0" t="0" r="12442" b="0"/>
          <a:stretch/>
        </p:blipFill>
        <p:spPr>
          <a:xfrm>
            <a:off x="2438280" y="472428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rcRect l="0" t="0" r="20487" b="0"/>
          <a:stretch/>
        </p:blipFill>
        <p:spPr>
          <a:xfrm>
            <a:off x="464832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rcRect l="0" t="0" r="20487" b="0"/>
          <a:stretch/>
        </p:blipFill>
        <p:spPr>
          <a:xfrm>
            <a:off x="464832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rcRect l="0" t="0" r="12442" b="0"/>
          <a:stretch/>
        </p:blipFill>
        <p:spPr>
          <a:xfrm>
            <a:off x="685800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8"/>
          <a:srcRect l="0" t="0" r="12442" b="0"/>
          <a:stretch/>
        </p:blipFill>
        <p:spPr>
          <a:xfrm>
            <a:off x="685800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9"/>
          <a:srcRect l="0" t="0" r="20487" b="0"/>
          <a:stretch/>
        </p:blipFill>
        <p:spPr>
          <a:xfrm>
            <a:off x="244440" y="138600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0"/>
          <a:srcRect l="0" t="0" r="20487" b="0"/>
          <a:stretch/>
        </p:blipFill>
        <p:spPr>
          <a:xfrm>
            <a:off x="2438280" y="141444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0" r="20487" b="0"/>
          <a:stretch/>
        </p:blipFill>
        <p:spPr>
          <a:xfrm>
            <a:off x="4648320" y="141444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2"/>
          <a:srcRect l="0" t="0" r="20487" b="0"/>
          <a:stretch/>
        </p:blipFill>
        <p:spPr>
          <a:xfrm>
            <a:off x="6858000" y="141444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44792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/TOMS - Absorbing Aerosol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4648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/TOMS – Tropospheric 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2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3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4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al Fires: Analysts 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al Fires: Analysts 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7:11:19Z</dcterms:created>
  <dc:creator>Rudy</dc:creator>
  <dc:description/>
  <dc:language>en-US</dc:language>
  <cp:lastModifiedBy>Rudy</cp:lastModifiedBy>
  <dcterms:modified xsi:type="dcterms:W3CDTF">2007-10-30T22:13:16Z</dcterms:modified>
  <cp:revision>74</cp:revision>
  <dc:subject/>
  <dc:title>HTAP Juelich</dc:title>
</cp:coreProperties>
</file>